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4B3-193B-4D99-96A7-5D058D5E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4C2-7886-420E-A2A9-9468C04C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5BA-D188-46E9-9465-2FBB17D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08D-D81D-4613-837F-E84DDB1B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736D-B561-4EAF-AC47-430DAFA1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AD52-33AE-4800-BBE7-D818ABB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00B1-4A13-48B4-967A-23EF2D6B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0FC-57C8-4102-9086-28AC0B2E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0BB9-B384-456A-93F1-61E2B1D4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F46-141F-4DA4-83FA-81E40EE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2E34-0959-4094-BFF4-C4DF9562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8C2-BE91-46A3-8F6C-98FA2C2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04B-B254-4B2F-80C1-D8B7386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67B-DB1E-4E78-93A1-CB6D470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906-10FD-44F2-B03B-F5F0B80A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7379-5425-4F37-8D72-0D7C25F0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CB08-BF9A-4285-A813-62D7507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E26-75AD-4BE9-B1D8-B9B7F3C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2B7-73C2-48BA-ABA3-6DDFBE10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C13-97E3-4377-939D-17FFC0B1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FE6-A11C-466C-B634-8C6E67A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A0D-CA4A-4626-9D8C-E295F0A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D34-E3E2-4AA7-B675-AE23EB0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D6C-998C-4AFB-8443-01CA336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06CC-3737-40F4-B537-B022E6010B1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0107-2E53-46CC-A0B6-9FC90E5CF2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 first Java Program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Tw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et vs. Appli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ARNING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se must match (uppercase/lowercas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e name must be same as class file n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pelling - braces - punctu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eeting.java   NOT greeting.j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mpile (with JDK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avac Greeting.ja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mon syntax errors (review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f no err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va Greeting (if Applicat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pletviewer Greeting.ht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TML Fil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reeting.html   (other names possi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&lt;title&gt; Web page applet &lt;/titl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&lt;applet “code = Greeting.class” width = 300 height = 200&gt; &lt;/applet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fter HTML created/save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etviewer Greeting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atch the applet appe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libraries used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ke Math when using square root or tan, cos, sine 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va = entire langu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plet = supercla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plet = needed for your Greeting progra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 =Abstract Windowing Tool    * = wildcar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th types of program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et - Part of web page (can test w/o web page but need browser or applet view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ication - free standing program w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ventory, billing, payroll etc.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o star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DE (desktop) a help to complete the pro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++, Jbuilder - Windows ba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DK - DOS ba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OS, Windows, UNI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ine vs. GUI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braries of commands used by everyone all the ti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p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a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d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e  - LOTS MORE TOO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iles - all typ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P documents (letters, mem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ava Progra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re”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ata bas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ive:filename. Exten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lders - sub directories -path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iling System - How to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re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is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ditor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o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reate, retrieve, delete text, insert text, move, copy, sear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rograms to help use Jav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ditor - create sourc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piler - create Class file (from sour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nker - pulls in libra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letviewer  - or browser to view Appl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ext of a Java Program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wt.*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ort java.applet.Appl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blic class Greeting extends Apple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 void paint (Graphics g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.drawString(“Hello” , 50, 5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14:20:10Z</dcterms:created>
  <dc:creator>Rod Farkas</dc:creator>
  <dc:description/>
  <dc:language>en-US</dc:language>
  <cp:lastModifiedBy>Rod Farkas</cp:lastModifiedBy>
  <dcterms:modified xsi:type="dcterms:W3CDTF">2001-11-03T00:55:02Z</dcterms:modified>
  <cp:revision>2</cp:revision>
  <dc:subject/>
  <dc:title>A first Java Program</dc:title>
</cp:coreProperties>
</file>